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921A-EA99-4250-AA71-E91BA93A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8AA4-AD27-4FDB-905B-F089B30D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9FE8-E8AF-4D2A-9150-5F7D4CC4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43E6-DDE4-4BEB-9227-4DADB96D2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67FD-EC57-4577-B255-61EB2CF0B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2E6F-AFC7-4A2B-A819-8231B0B6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03E3-4066-4B62-9C52-AD0813C2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67322-130E-4042-8655-5BEF62E7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B821-006C-407C-9D0C-41C89531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8701-BD7B-4F6E-9D6B-72743EB2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0A68-2D11-41CE-88BE-2DD63566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267F-BE5B-4B0D-83A1-A2438815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0DCC-FAF6-42E6-90AC-5EFAED79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4CAA-2220-47B9-AB1D-A71307F7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5BE5-EFA4-4D42-B675-5270D325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3677-52CB-4641-AD36-043D0ABF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191F-035F-461E-9E8B-B83D205EC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2B8A-558E-4E80-8D0C-41883CA3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A34A-1B22-40A3-968C-DBE4BB11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A696-14A4-4EE1-8B4F-68299AA6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0692-6747-47C3-95CC-57CFD0F1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545A-6569-48B2-B27F-DA7E213E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9E98-EBDD-4735-BCF1-11E05F70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11EE-3AB9-4A53-8768-23956868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ba0023"/>
                </a:gs>
                <a:gs pos="100000">
                  <a:srgbClr val="8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ba0023"/>
                </a:gs>
                <a:gs pos="50000">
                  <a:srgbClr val="800000"/>
                </a:gs>
                <a:gs pos="100000">
                  <a:srgbClr val="ba002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ba0023"/>
                </a:gs>
                <a:gs pos="100000">
                  <a:srgbClr val="8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ba0023"/>
                </a:gs>
                <a:gs pos="100000">
                  <a:srgbClr val="8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ba0023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ba0023"/>
                </a:gs>
                <a:gs pos="100000">
                  <a:srgbClr val="8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ba0023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5543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6AD8-AC36-4349-9F2A-5ED0682D9344}" type="slidenum"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ba0023"/>
                </a:gs>
                <a:gs pos="100000">
                  <a:srgbClr val="8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ba0023"/>
                </a:gs>
                <a:gs pos="50000">
                  <a:srgbClr val="800000"/>
                </a:gs>
                <a:gs pos="100000">
                  <a:srgbClr val="ba002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ba0023"/>
                </a:gs>
                <a:gs pos="100000">
                  <a:srgbClr val="8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ba0023"/>
                </a:gs>
                <a:gs pos="100000">
                  <a:srgbClr val="8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ba0023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ba0023"/>
                </a:gs>
                <a:gs pos="100000">
                  <a:srgbClr val="8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ba0023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5543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2953-1836-4D71-9917-4FD6E90171A5}" type="slidenum">
              <a:rPr b="0" lang="sr-Latn-C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Arial"/>
              </a:rPr>
              <a:t>Rehabilitacija </a:t>
            </a:r>
            <a:r>
              <a:rPr b="0" lang="sr-Latn-CS" sz="4800" spc="-1" strike="noStrike">
                <a:solidFill>
                  <a:srgbClr val="ffff99"/>
                </a:solidFill>
                <a:latin typeface="Arial"/>
              </a:rPr>
              <a:t>bolesnika sa lezijom PMN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Doc. Dr Tanja Lukovi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Arial"/>
              </a:rPr>
              <a:t>Stadijum oduzetosti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asivne vežbe protiv kontrak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levacija protiv otoka (mitela;strma rava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S protiv atrofije oduzetih mišić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prio i eksteroceptivna stimulacija (masaža, četkanje,lupkanje) za priliv impulsa iz oduzetog ekstremite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Zaštititi kožu (rukavice, čarap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Arial"/>
              </a:rPr>
              <a:t>Stadijum oporavk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otorna redukacija:KTH i terapija rad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1) očuvanje obima pokreta 2) povećanje mišićne snage 3) poboljšanje brz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4) poboljšanje koordinacije pokre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enzorna reedukacija: uvežbavanje stereognozije (n.medijanu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Arial"/>
              </a:rPr>
              <a:t>Stadijum trajnih posledic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od nepotpunog  oporavka ili izostalog nakon 18 mesec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rtotis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ompezacija(trik pokretom,jednorukim ak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Hiruške tehnike (transplatacija nerv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Arial"/>
              </a:rPr>
              <a:t>Kontrola oporavk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linički se najpre oporavljaju vlakna za bol, pa za dodir, a na kraju moto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ilazni descedentni oporav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inellov zn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ontrolni neurološki i fizijatrijski pregl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ontrolni EMG i 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Arial"/>
              </a:rPr>
              <a:t>Tinellov zna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linički znak oporavka perifernog ner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erkusijom stabla javlja se osećaj strujanja do mesta dokle je regeneracij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(1 do 2 mm na da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Arial"/>
              </a:rPr>
              <a:t>Fizikalni agensi za PM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lektroterapija: ES, SG,T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ermoterapija: sollux, parafin, peloid; krioterapija; KT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ineziterap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rtotisa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Arial"/>
              </a:rPr>
              <a:t>Periferni nervi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Glavna uloga je sprovodjenje impulsa od CNS ka periferiji i obrnu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mijelinska (starija)-u vegetativnom 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-nociceptivna vlak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ijelinska (mladja)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Arial"/>
              </a:rPr>
              <a:t>Dijagnostika lezije PM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namne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Lokalizacija lez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cena funkcionalnog stanja i sposob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dredjivanje zadataka rehabilitaci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Arial"/>
              </a:rPr>
              <a:t>Neuropraksij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ekid funkcije uz očuvan kontinuitet ner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linički –pare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D-parcijalna ED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poravak do 6 nedel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Arial"/>
              </a:rPr>
              <a:t>Lokalizacija lezij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pšte karakteristike lezija PMN:promene tonusa, trofike, senzibiliteta, MTR i patoloških reflek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spituju se oštećeni nerv i mišići koji ga inerviš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Arial"/>
              </a:rPr>
              <a:t>Karakterističke kliničke slik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.peroneus                  viseće stopa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.tibialis                       petno stopa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. radialis                    viseča ša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. ulnaris                     kandžasta ša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. medianus                ruka propovedn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li majmunska ša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Arial"/>
              </a:rPr>
              <a:t>Aksonotmez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ekid akso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linički-paraliza, gubitak funkcije, gubitak senzibilite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DR-komplet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MG-denervacioni potencijali, polifaz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Arial"/>
              </a:rPr>
              <a:t>Neurotmez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otpuni prekid ner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linički mlitava oduzetost, brzo napredovanje atrofije. Kod mešovitog nerva anestezija, suva, istanjena koža, a kasnije i ot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DR-potpuna ili apsolut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MG-DNP, polifazija,redukcija tr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poravak nepotpun (,,lepljenje,, preparatima plaz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Arial"/>
              </a:rPr>
              <a:t>Stadijum periferne oduzetosti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t oduzetosti: sprečavanje kontraktura, deformacija, i širenja inhibicije u C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t oporavka: motorna i senzorna reeduka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t trajnih posledica: supstitucija i kompezacija trajno oštećenih funk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2:07:36Z</dcterms:created>
  <dc:creator>WIN98SE</dc:creator>
  <dc:description/>
  <dc:language>en-US</dc:language>
  <cp:lastModifiedBy>Info</cp:lastModifiedBy>
  <dcterms:modified xsi:type="dcterms:W3CDTF">2010-02-28T22:04:54Z</dcterms:modified>
  <cp:revision>15</cp:revision>
  <dc:subject/>
  <dc:title>Rehabilitacija traumatoloških bolesnika</dc:title>
</cp:coreProperties>
</file>